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91F-68F8-4714-9721-2E23BB47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B57-47A0-4C57-B188-20307BB2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1F5B2-328B-43E2-B031-E10C950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FE699-2400-42A0-95D7-7C45C739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A8505-E4B9-47A8-A588-D4B0A47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F1D40-D7F2-470B-AB5E-861C58D4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09DBD-5C77-4224-8E12-A9341DA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11777-68C3-4D2B-B385-D73D08D5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D17EA-305D-4FEA-8901-EEE931D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8C5B8-539B-41EF-B985-11E572BE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4A8F7-E591-4702-96CA-25752B18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8C500-C334-4645-A0B7-90BA79B5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77-F9AC-46EA-8B0D-4D7BB8C3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3AC8F-AE54-4495-9874-C61E9BD4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7EF69-E3D5-49E1-AC50-5C5E4D1D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DF6BF-3D7A-4111-9081-566B3661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25CB-9795-441E-B98F-D4122B24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7F23D-9CD8-4C06-9A38-E41A6FF0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B2332-71D0-4C59-A06B-CBDE440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21C7A-27C4-4B14-BEF2-6601C89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F9863-5907-42A4-A10C-3AF094C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E53C4-19D5-457B-8BD6-E35B6CB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34071-2286-41D4-9A01-4F8B3645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4F1-33AF-4074-AF2C-B27DDE59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C59D7-4039-4E1D-B2DE-AB0281D5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E23C0-2DA9-4942-A058-9DEB7BA4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0B92-7CA9-4786-A077-CCCA3AB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97C46-635E-46BA-9755-B914DC6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E6D02-60A0-4C1A-A01B-0D46496E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9B03E-2E16-46CA-915E-0174F9E6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FEAC8-A40D-4625-85F7-9269536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256B8-D9C8-41C1-9320-00610E6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1F7D8-1D47-400F-BAD8-2E9399D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8B0C8-D7A9-4DA1-A3F0-A65EF51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061D-C6CA-49E9-A79E-A17267B3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FC985-90A1-4FEC-B9B3-7C6357E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BE4F-68B1-4A4B-9459-1C62563A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48115-2F8E-4BCD-851C-3E5F059A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855C6-1B4A-4003-8CE3-FC5ADA0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27B98-DFFE-4F11-ADDD-183D28CB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84485-338C-4775-83F8-085F5BAF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ACAD5-C9CD-43B3-AE25-8A016391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1A7BB-6C25-4B10-AC78-18F7BB5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F74CD-2786-4285-B875-E131D08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EB9C4-D9E1-4134-9B4A-E44485F8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96A1-0845-4438-9B81-FD7BE4E0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81EFE-1373-4F07-B485-385CA46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9BADB-62C2-4E3D-A4FE-B2CE319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9DFBF-F625-4157-A5EA-D70EBEA4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D5E47-24C1-4C30-9FD2-252AF6F3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03CE1-7D08-4203-A2F4-65C557DC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796-2DFD-4391-B6F9-53BC6D0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5014-AF5B-4083-AA41-AB7F72B6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40C3-9BBD-4ECB-9F91-53829C7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3EF3-CC48-49E4-ADE1-71365F1E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2EB-3C9D-4406-973B-6B5B6A3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172-A0F6-4C19-A088-C5C2E25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4800-BF0F-48A7-A730-235238E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A38B-19B2-4BC2-B35E-5A9C46A7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83F9-7043-4B5B-82E0-42433F6C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0B6E-61EE-4644-B8F1-80E99120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A91B-0125-4B9C-B412-2C61704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34AF-B4CC-4B4D-B530-16B87A5F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324A-E87F-4C45-9005-647516B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1BBC-8400-4917-8C16-1C8F1D15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4744-1E38-4541-A8EA-11F03643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5410-7E16-4876-A1AB-CF8B818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FAA-F1EF-411D-AC4A-FA4EF040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47DB-0B6F-4199-8E3B-6DE7F10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1787-5E24-4527-A39B-8E76887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9D92-E771-4286-920A-59807B2B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45F5-46D6-42D6-91B0-F06B3A30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7637-31E2-45AA-BF5A-D0006F3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81BC-A247-4B48-9B56-748A9DED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68B0-7CED-4451-83EB-C1395D44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2CBA-FB8A-46C6-8B1C-0B3F602D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2FA4-FCB5-40BA-864C-57C7EAB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4BF4-030F-48B9-868A-8E93E01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22B-7101-4791-8908-E6D5A2FE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E15F-0F53-4895-98A5-0045342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8B2B-B56F-4A10-A30B-A5782198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5380-2411-4416-8C3F-D75BAE7A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1BA4-0018-44E4-81E8-F691222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AA5B-B826-4345-BAC2-ACE1F709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2320-4B28-4DD1-B8B6-FB032C5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D144-04FA-485C-95A6-8B5FF1E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ED054-0ECA-40AD-8D03-FAE3FE73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2935-FE28-4CFF-9178-B623F14D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726D-7628-445B-BAA3-78534F1C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6A6-1A94-4184-BEFE-C9EF29FD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E952-1F55-4B38-AB59-5C5C323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E9DC0-C2DC-44E3-B757-D3A00E2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E587-ED84-4BD5-9FB3-2BDC6FF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72F81-122F-4BAA-AA1D-14160732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31F2-CE55-4AD7-BD84-E8394189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13E4-E337-43EF-8162-D5E221B4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555F0-EB2C-4B31-93E2-6B54DA3D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D6AC3-BB97-4D7E-BBFF-B57B8CB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FD42-F62E-405F-9B95-887B4736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9FC4F-EA3C-43FC-813F-351F9CF2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44B-0261-492D-AFC4-B8D29137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5553-E4F7-491A-89F0-C7441C39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36F5-69C0-4BE9-904C-7DF9D32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8C5A3-48BF-4B6B-84AD-F381A52E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E44E-2773-43BB-A4BE-308CC2B3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7962-5B91-4C25-A149-B00D83C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B44A-9D27-4604-B28E-330952B7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3E75-14C4-4FD1-8300-92EC35D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D2338-2DB2-4235-87B6-58C1FBB9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DBA3-0251-4AE1-81B1-43F969F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190F1-CD0E-4D57-A855-ACDBDCC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32A-B570-46E4-8B18-9F0D67F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B36F-090E-43F1-8567-D6AD3E9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911E-7360-4B02-8497-05E056E8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2C10-6C97-4FBD-A216-4E49A158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C56E-7743-49C3-8B47-B69E78FD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33443-147A-44C8-85C1-3FC5E5B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81D1-9562-47A0-B55A-26044503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FF17-2C64-4BAB-94E8-E28D363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A739A-7C8F-469A-95A2-5EDC12BE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E6517-EA57-4F2D-83C0-20A5F9B6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648A-49A1-4D18-B173-D12626E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761-C320-4979-92E8-E74C18E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4B24-28B8-4F7D-A79D-3E621F07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8B00-26FE-467B-9D72-7CE894E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C666-769A-4C44-8A63-328CDAFC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D69D-8CED-4D63-B9B3-AD639F5B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82BA-8DC4-4B72-87B8-4D81CAAD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BC27-0B88-4347-B774-16CD11CA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39F59-14E8-4FBB-8175-B565AC0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05F8F-1E8A-4BF2-8C26-84A2AD0F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18F7D-5C71-4FD0-87FF-D6354D28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1514B-290E-4146-84F9-903CAE5F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316-B81D-4012-9ACD-0FC4B1E8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8AFBF-AA73-4F9E-AA23-3629402F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D356-BEAF-42BC-A8A5-3180E93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A334F-207F-493B-9D7F-4CC98DF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3FD7-E430-4D09-B31F-A97A023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6F98-8492-45E5-824D-47C7C00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8566-E169-4F03-B50F-A1CFD803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16889-A244-44AE-8BF0-418D6A2F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86E4-AC29-4887-8DEF-5A82E0AC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7840-8833-4E41-A40A-BAB24F63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EDE4-3DA0-481A-BCA8-5D0CAB7B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F8FB-60F0-434B-A69F-9CACA8C91C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CBF-9D26-4669-B56F-960C7C884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B765-20F8-4055-8619-A7BAE80AF8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B1E-9B47-4D0E-91C8-016DB63AA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FB82-6118-466E-AC13-DDBE90F876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446A-5442-440D-B028-DC11E3EEE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E5D-0893-4394-ACD9-92B67D633E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81A-DBC7-480C-B47D-CA5FAF792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3589-F395-4C62-8B5D-72DFF0C71A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9FAC-06F2-41D5-A76B-4F0D1898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3FAE-F742-4B66-AF59-77DB6AAC45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1D60-1B72-4140-BD89-5B8B652E7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083-65B9-48D9-A998-A2BCA75E21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2FF4-A84C-41B2-8F10-B3FAA472B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BFA5-A8C0-4378-A462-2625C851EF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B0F-0938-41F5-A8FD-CB838D46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BBB-D71F-4EEA-8635-041299A131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C46-C24E-4978-BAAF-79211A2A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660-5B11-4D2F-A0A1-82BDAB4681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080-A1C5-431C-B6E2-EFF91CB2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B6A-9DC5-4468-A733-54CB7346E1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322C-95D0-48B3-84AB-737C4DF87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441-D370-48EA-8AE1-B8E1F75370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2209-3F85-4C53-BFDC-692D2D273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8.xml"/><Relationship Id="rId22" Type="http://schemas.openxmlformats.org/officeDocument/2006/relationships/slide" Target="slide28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audio" Target="../media/whoosh.wav"/><Relationship Id="rId2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5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116000" y="1413000"/>
            <a:ext cx="705636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Phase of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heart rhyth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when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s at res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029040" y="1676520"/>
            <a:ext cx="334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asto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1"/>
          <p:cNvSpPr/>
          <p:nvPr/>
        </p:nvSpPr>
        <p:spPr>
          <a:xfrm>
            <a:off x="2068560" y="1461960"/>
            <a:ext cx="500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ransports oxygen, carbon dioxide and Hemoglob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62840" y="1844640"/>
            <a:ext cx="5699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d blood cells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"/>
          <p:cNvSpPr/>
          <p:nvPr/>
        </p:nvSpPr>
        <p:spPr>
          <a:xfrm>
            <a:off x="1908000" y="1876320"/>
            <a:ext cx="49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Fights against germs and foreign mater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459080" y="1724040"/>
            <a:ext cx="62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ite blood cell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Box 1"/>
          <p:cNvSpPr/>
          <p:nvPr/>
        </p:nvSpPr>
        <p:spPr>
          <a:xfrm>
            <a:off x="1692360" y="1844640"/>
            <a:ext cx="61722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Pumps blood to the entire bo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2652120" y="2108160"/>
            <a:ext cx="392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Hear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1"/>
          <p:cNvSpPr/>
          <p:nvPr/>
        </p:nvSpPr>
        <p:spPr>
          <a:xfrm>
            <a:off x="1150920" y="1838160"/>
            <a:ext cx="684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Responsible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blood clot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811960" y="1844640"/>
            <a:ext cx="34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latelet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220932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ircuit from the heart to the lungs and 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1"/>
          <p:cNvSpPr/>
          <p:nvPr/>
        </p:nvSpPr>
        <p:spPr>
          <a:xfrm>
            <a:off x="563400" y="1563840"/>
            <a:ext cx="79930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Liquid part of the bloo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in which blood cel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are suspen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3146760" y="1600200"/>
            <a:ext cx="297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lasm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1"/>
          <p:cNvSpPr/>
          <p:nvPr/>
        </p:nvSpPr>
        <p:spPr>
          <a:xfrm>
            <a:off x="571680" y="1341360"/>
            <a:ext cx="82818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Largest artery i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the human bo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804760" y="2108160"/>
            <a:ext cx="369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Aort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1"/>
          <p:cNvSpPr/>
          <p:nvPr/>
        </p:nvSpPr>
        <p:spPr>
          <a:xfrm>
            <a:off x="826920" y="1623960"/>
            <a:ext cx="7632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Tiny blood vesse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that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Calibri"/>
                <a:ea typeface="Calibri"/>
              </a:rPr>
              <a:t>one blood cell w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2743560" y="1916280"/>
            <a:ext cx="399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apillari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1101600" y="1479600"/>
            <a:ext cx="69408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Blood vesse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are elastic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and muscula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2990520" y="1658880"/>
            <a:ext cx="34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rteri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1224000" y="1376280"/>
            <a:ext cx="6696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Blood vessels that contains valves to prevent backflow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825480" y="2108160"/>
            <a:ext cx="722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vein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1516320" y="2230560"/>
            <a:ext cx="6398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ulmonary Circui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1"/>
          <p:cNvSpPr/>
          <p:nvPr/>
        </p:nvSpPr>
        <p:spPr>
          <a:xfrm>
            <a:off x="1173240" y="1268280"/>
            <a:ext cx="67975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All arteries carry oxygen-rich blood except for this artery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619200" y="1874880"/>
            <a:ext cx="7891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ulmonary artery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"/>
          <p:cNvSpPr/>
          <p:nvPr/>
        </p:nvSpPr>
        <p:spPr>
          <a:xfrm>
            <a:off x="1174680" y="1557360"/>
            <a:ext cx="67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Divides the hear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to two si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458800" y="1916280"/>
            <a:ext cx="4208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eptu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1026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"/>
          <p:cNvSpPr/>
          <p:nvPr/>
        </p:nvSpPr>
        <p:spPr>
          <a:xfrm>
            <a:off x="1071720" y="1700280"/>
            <a:ext cx="66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ype of arteri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supply bloo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o the heart muscle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576440" y="2060640"/>
            <a:ext cx="6206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ronary arteri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52280" y="1219320"/>
            <a:ext cx="880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1"/>
          <p:cNvSpPr/>
          <p:nvPr/>
        </p:nvSpPr>
        <p:spPr>
          <a:xfrm>
            <a:off x="993600" y="1652760"/>
            <a:ext cx="746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thick muscul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layer of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contra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0" y="1827360"/>
            <a:ext cx="872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myocardiu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"/>
          <p:cNvSpPr/>
          <p:nvPr/>
        </p:nvSpPr>
        <p:spPr>
          <a:xfrm>
            <a:off x="1652760" y="1212840"/>
            <a:ext cx="607680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protective tissue that encloses and protects the hear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703880" y="1739880"/>
            <a:ext cx="5464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pericard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"/>
          <p:cNvSpPr/>
          <p:nvPr/>
        </p:nvSpPr>
        <p:spPr>
          <a:xfrm>
            <a:off x="1866960" y="1801800"/>
            <a:ext cx="53658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ircuit from the heart to the body and 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1"/>
          <p:cNvSpPr/>
          <p:nvPr/>
        </p:nvSpPr>
        <p:spPr>
          <a:xfrm>
            <a:off x="571680" y="1197000"/>
            <a:ext cx="7943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in layer of ver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smooth tissu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lining the insid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of each chamb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of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71360" y="1687680"/>
            <a:ext cx="882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ocardium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Box 1"/>
          <p:cNvSpPr/>
          <p:nvPr/>
        </p:nvSpPr>
        <p:spPr>
          <a:xfrm>
            <a:off x="1547640" y="1268280"/>
            <a:ext cx="64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Times New Roman"/>
              </a:rPr>
              <a:t>The number of chambers in the hear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3128400" y="1676520"/>
            <a:ext cx="297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"/>
          <p:cNvSpPr/>
          <p:nvPr/>
        </p:nvSpPr>
        <p:spPr>
          <a:xfrm>
            <a:off x="571680" y="1557360"/>
            <a:ext cx="80262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hamber of the heart that receives oxygen-poor blood from the body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981080" y="2108160"/>
            <a:ext cx="474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 atriu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866880" y="1654200"/>
            <a:ext cx="76006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hamber of the hear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at pumps bloo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to the lun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811160" y="1353960"/>
            <a:ext cx="527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ight ventric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1"/>
          <p:cNvSpPr/>
          <p:nvPr/>
        </p:nvSpPr>
        <p:spPr>
          <a:xfrm>
            <a:off x="957240" y="1689120"/>
            <a:ext cx="67960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larger numb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 a blood pressure reading</a:t>
            </a:r>
            <a:r>
              <a:rPr b="0" lang="en-C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3143880" y="1676520"/>
            <a:ext cx="302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ysto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744200" y="1568520"/>
            <a:ext cx="583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ystemic circu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2"/>
          <p:cNvSpPr/>
          <p:nvPr/>
        </p:nvSpPr>
        <p:spPr>
          <a:xfrm>
            <a:off x="611280" y="1413000"/>
            <a:ext cx="75610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smaller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in a blood pressure re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2925360" y="2109960"/>
            <a:ext cx="316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iastol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2160720" y="1341360"/>
            <a:ext cx="48225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Circulation from the aorta to the coronary vess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310040" y="1720800"/>
            <a:ext cx="625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ronary Circu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1447920" y="1844640"/>
            <a:ext cx="58608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Times New Roman"/>
              </a:rPr>
              <a:t>The heart’s pacemak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2330280" y="1887480"/>
            <a:ext cx="4304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no Atria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SA) nod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obilef</cp:lastModifiedBy>
  <dcterms:modified xsi:type="dcterms:W3CDTF">2012-12-06T20:43:09Z</dcterms:modified>
  <cp:revision>79</cp:revision>
  <dc:subject/>
  <dc:title>Blank Jeopardy</dc:title>
</cp:coreProperties>
</file>